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429-C129-483D-9321-49412DE6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888-3BF1-4383-B0FC-13D7B190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6B6-D759-45EE-9E59-1E5C0703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0D4-2213-4A27-BF64-6ED0DD41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200-8F57-41B1-A0B9-B030BD90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882-AC56-45D2-AF59-165CFF83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2D2-F48A-4630-80BA-FF048F9A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295-3774-4C30-A628-3AACB2B5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36F-BA70-4999-9E8E-0F7B2C2E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77D-09F4-445C-A69F-6303EFAE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232-9259-4F65-B8E6-DC8A2059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369-942B-4375-A348-51FFF362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2EFD-D145-4933-948B-8921E605A2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logo LGD BR.jpg"/>
          <p:cNvPicPr/>
          <p:nvPr/>
        </p:nvPicPr>
        <p:blipFill>
          <a:blip r:embed="rId1"/>
          <a:stretch/>
        </p:blipFill>
        <p:spPr>
          <a:xfrm>
            <a:off x="501480" y="0"/>
            <a:ext cx="814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2T06:58:36Z</dcterms:created>
  <dc:creator>user</dc:creator>
  <dc:description/>
  <dc:language>en-US</dc:language>
  <cp:lastModifiedBy>user</cp:lastModifiedBy>
  <dcterms:modified xsi:type="dcterms:W3CDTF">2017-05-22T07:00:31Z</dcterms:modified>
  <cp:revision>1</cp:revision>
  <dc:subject/>
  <dc:title>Slajd 1</dc:title>
</cp:coreProperties>
</file>