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014-ABEF-4088-9199-9F36E6F3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CD3-C053-4ECF-8D4A-61C6B72D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7DE-C64E-4D3C-AEBA-40C83918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3D4-6B76-4337-BF68-3E7EDC93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BBE-6042-4110-9FBB-98CD2A45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53D-4F74-4C16-82B5-109EFEAF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33B-9C3C-4372-8DBE-2E32063D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4B4-55DA-4537-AE9D-53CD966A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D6E-A389-4549-BBCF-5C04F4B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806-7EA1-4FE9-98A3-DE4E5F8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E28-38C6-4E41-B08F-8935548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D61-19B5-48FA-A0C6-0870B73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A64-C192-4C9F-A20A-927DF19E99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4" descr="prow 2014-2020.jpg"/>
          <p:cNvPicPr/>
          <p:nvPr/>
        </p:nvPicPr>
        <p:blipFill>
          <a:blip r:embed="rId1"/>
          <a:stretch/>
        </p:blipFill>
        <p:spPr>
          <a:xfrm>
            <a:off x="2428920" y="2028960"/>
            <a:ext cx="42861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7:48:51Z</dcterms:created>
  <dc:creator>user</dc:creator>
  <dc:description/>
  <dc:language>en-US</dc:language>
  <cp:lastModifiedBy>user</cp:lastModifiedBy>
  <dcterms:modified xsi:type="dcterms:W3CDTF">2017-05-22T07:50:22Z</dcterms:modified>
  <cp:revision>2</cp:revision>
  <dc:subject/>
  <dc:title>Slajd 1</dc:title>
</cp:coreProperties>
</file>