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F3BB-4FD5-4A5A-8919-9D691AE0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2EF6-FE6F-4E9D-B990-B0EBC5E6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53B-1284-42B1-AE81-96ED61FD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C0D5-5510-43C7-9076-B98E5796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BBB6-B0DD-45C0-AFB2-213C7378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3E3F-AEC0-4126-8EE1-80FE1EE3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1CC-7C3B-4ADD-9EF3-7F48EB55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33C-D2C6-41BE-9E1B-E09582DD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932A-3148-439B-987A-3DAC1413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0D6D-25CF-4EAB-930D-1E08DDF3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FA13-2104-4B8A-9E7F-D95408D1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520-C4E8-463F-911F-6E9709F4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1DE1-162F-4458-AB70-0CC049CBDE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3" descr="unia.jpg"/>
          <p:cNvPicPr/>
          <p:nvPr/>
        </p:nvPicPr>
        <p:blipFill>
          <a:blip r:embed="rId1"/>
          <a:stretch/>
        </p:blipFill>
        <p:spPr>
          <a:xfrm>
            <a:off x="762120" y="885960"/>
            <a:ext cx="761976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2T07:48:51Z</dcterms:created>
  <dc:creator>user</dc:creator>
  <dc:description/>
  <dc:language>en-US</dc:language>
  <cp:lastModifiedBy>user</cp:lastModifiedBy>
  <dcterms:modified xsi:type="dcterms:W3CDTF">2017-05-22T07:49:55Z</dcterms:modified>
  <cp:revision>1</cp:revision>
  <dc:subject/>
  <dc:title>Slajd 1</dc:title>
</cp:coreProperties>
</file>