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A7A02-D85C-40E8-94A4-B7BF25815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FA7F7-0DF8-4FB8-9F5E-3C22E3CB7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FB0E1-FA67-444E-8F70-577F7C68E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F081B-429A-4241-A8A0-02A5FBA74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5C47F-9729-45E5-90F0-4BA7C490E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CEF3A-A6AC-4777-914F-976AE6365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333FC-236E-4DE2-B177-B04B2C929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DF026-EBDB-4629-AEA2-5F4540E5E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C2D2D-2A4C-4AEC-9619-7F44E93B8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EC8D5-6FCD-49DE-AF99-8DD4EC97C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93A1B-9438-4AAF-A414-97CE2AFB7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BE481-8F56-48BC-9DF0-E2B014F80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37020-9347-48DE-AB39-06022C7207E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Obraz 6" descr="leader.jpg"/>
          <p:cNvPicPr/>
          <p:nvPr/>
        </p:nvPicPr>
        <p:blipFill>
          <a:blip r:embed="rId1"/>
          <a:stretch/>
        </p:blipFill>
        <p:spPr>
          <a:xfrm>
            <a:off x="2257560" y="1109520"/>
            <a:ext cx="4628880" cy="463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5-22T07:48:51Z</dcterms:created>
  <dc:creator>user</dc:creator>
  <dc:description/>
  <dc:language>en-US</dc:language>
  <cp:lastModifiedBy>user</cp:lastModifiedBy>
  <dcterms:modified xsi:type="dcterms:W3CDTF">2017-05-22T07:51:01Z</dcterms:modified>
  <cp:revision>3</cp:revision>
  <dc:subject/>
  <dc:title>Slajd 1</dc:title>
</cp:coreProperties>
</file>